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13275-458D-4C4A-B96F-CA6B858E0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83110-D4B9-43C8-BAC9-C2AB13939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A85F4-99D8-4010-801C-2AE5583AD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03396-C4C8-469A-8AF9-7DB56E1F6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DEE79-E919-44CD-9CC5-1B4B65BED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BE6C3-A716-49D9-A72B-C502691CB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5344E-882C-41D1-A82F-D13052022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8F01B-1F7D-4439-80C1-CF64687B8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317E1-A4F1-45EE-A0D0-EB1EE98D3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0BB08-1D18-4662-9E87-EC0D749F6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6DB34-FFAA-47B6-A7F4-4F4912E76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5CEF9-759E-439A-B890-5D05F2FE7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349D0-17E4-4E7B-8FDD-0F8928496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AF6B8-B519-4501-AFFA-D48474C6E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2A9DB-073D-4C80-92CA-EBF9447AC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D5570-CA44-464B-B3C5-B7EDA848C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C2018-72FC-4A1D-875F-4A7CE1712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F5AC2-4140-44CA-91FE-A62677452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4ECA8-1B6D-4E36-8A05-12F686B5B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FC61E-5389-4D25-AFBF-EA9783CE9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0EC1D-1CF8-480C-871D-629D1F0F6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AD7E4-4A8C-48E9-ADBA-B7EB80A00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985B1-C72A-4296-8326-42E0D7DB9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F948B-D74E-4A1D-AB0A-7AB6338C0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6f5c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f5cf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6f5c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6f5c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97CC1-6729-440B-A3B8-43ED4BE5892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6f5c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f5cf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6f5c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6f5c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81B04-BC44-471F-8A7B-D72688DBC18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17"/>
          <p:cNvSpPr/>
          <p:nvPr/>
        </p:nvSpPr>
        <p:spPr>
          <a:xfrm>
            <a:off x="1332000" y="404640"/>
            <a:ext cx="6840360" cy="10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cc"/>
                </a:solidFill>
                <a:latin typeface="Times New Roman"/>
              </a:rPr>
              <a:t>Procese psihice </a:t>
            </a:r>
            <a:r>
              <a:rPr b="0" lang="ro-RO" sz="4800" spc="-1" strike="noStrike">
                <a:solidFill>
                  <a:srgbClr val="3333cc"/>
                </a:solidFill>
                <a:latin typeface="Arial"/>
              </a:rPr>
              <a:t>şi rolul lor în evoluţia personalităţii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8"/>
          <p:cNvSpPr/>
          <p:nvPr/>
        </p:nvSpPr>
        <p:spPr>
          <a:xfrm>
            <a:off x="684360" y="2565360"/>
            <a:ext cx="8211960" cy="326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Nume – prenume – cl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1 </a:t>
            </a:r>
            <a:r>
              <a:rPr b="1" lang="ro-RO" sz="2000" spc="-1" strike="noStrike">
                <a:solidFill>
                  <a:srgbClr val="ff3300"/>
                </a:solidFill>
                <a:latin typeface="Arial"/>
              </a:rPr>
              <a:t>Mihăilescu Maria </a:t>
            </a:r>
            <a:r>
              <a:rPr b="1" lang="en-GB" sz="2000" spc="-1" strike="noStrike">
                <a:solidFill>
                  <a:srgbClr val="ff3300"/>
                </a:solidFill>
                <a:latin typeface="Arial"/>
              </a:rPr>
              <a:t>- a </a:t>
            </a:r>
            <a:r>
              <a:rPr b="1" lang="ro-RO" sz="2000" spc="-1" strike="noStrike">
                <a:solidFill>
                  <a:srgbClr val="ff3300"/>
                </a:solidFill>
                <a:latin typeface="Arial"/>
              </a:rPr>
              <a:t>X</a:t>
            </a:r>
            <a:r>
              <a:rPr b="1" lang="en-GB" sz="2000" spc="-1" strike="noStrike">
                <a:solidFill>
                  <a:srgbClr val="ff3300"/>
                </a:solidFill>
                <a:latin typeface="Arial"/>
              </a:rPr>
              <a:t> – </a:t>
            </a:r>
            <a:r>
              <a:rPr b="1" lang="ro-RO" sz="2000" spc="-1" strike="noStrike">
                <a:solidFill>
                  <a:srgbClr val="ff3300"/>
                </a:solidFill>
                <a:latin typeface="Arial"/>
              </a:rPr>
              <a:t>a</a:t>
            </a:r>
            <a:r>
              <a:rPr b="1" lang="en-GB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ro-RO" sz="2000" spc="-1" strike="noStrike">
                <a:solidFill>
                  <a:srgbClr val="ff33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Unitatea de invatam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3300"/>
                </a:solidFill>
                <a:latin typeface="Arial"/>
              </a:rPr>
              <a:t>Liceul Teoretic “GH.ŞINCAI” Cluj - Napo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200" spc="-1" strike="noStrike">
                <a:solidFill>
                  <a:srgbClr val="3333cc"/>
                </a:solidFill>
                <a:latin typeface="Arial"/>
              </a:rPr>
              <a:t>Senzaţiil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Definiţia senzaţie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O noua definiţie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200" spc="-1" strike="noStrike">
                <a:solidFill>
                  <a:srgbClr val="3333cc"/>
                </a:solidFill>
                <a:latin typeface="Arial"/>
              </a:rPr>
              <a:t>Senzaţiile vizual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68000" y="1599840"/>
            <a:ext cx="86756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6f5cfa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descrierea imaginii de mai j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3290760" y="2781360"/>
            <a:ext cx="3329280" cy="381636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25440" y="568440"/>
            <a:ext cx="7221600" cy="60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33cc"/>
                </a:solidFill>
                <a:latin typeface="Arial"/>
              </a:rPr>
              <a:t>Senzaţii vizual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26920" y="2060640"/>
            <a:ext cx="77774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3300"/>
                </a:solidFill>
                <a:latin typeface="Arial"/>
              </a:rPr>
              <a:t>Studiu de caz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3300"/>
                </a:solidFill>
                <a:latin typeface="Arial"/>
              </a:rPr>
              <a:t>Ioana reţine mai greu informaţiile pe care doar le aude dar daca informaţile sunt însoţite de imagini şi mai ales dacă imaginile sunt colorate înţelege totul mult mai uş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3300"/>
                </a:solidFill>
                <a:latin typeface="Arial"/>
              </a:rPr>
              <a:t>De ce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Explica</a:t>
            </a:r>
            <a:r>
              <a:rPr b="0" lang="ro-RO" sz="2800" spc="-1" strike="noStrike">
                <a:solidFill>
                  <a:srgbClr val="ff3300"/>
                </a:solidFill>
                <a:latin typeface="Arial"/>
              </a:rPr>
              <a:t>ţia constă în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200" spc="-1" strike="noStrike">
                <a:solidFill>
                  <a:srgbClr val="330033"/>
                </a:solidFill>
                <a:latin typeface="Arial"/>
              </a:rPr>
              <a:t>Senzaţii vizual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Autoanaliză(introspecţie) cu privire la experienţa personal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200" spc="-1" strike="noStrike">
                <a:solidFill>
                  <a:srgbClr val="330033"/>
                </a:solidFill>
                <a:latin typeface="Arial"/>
              </a:rPr>
              <a:t>Senzaţiile vizual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Rolul lor în artele vizu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200" spc="-1" strike="noStrike">
                <a:solidFill>
                  <a:srgbClr val="330033"/>
                </a:solidFill>
                <a:latin typeface="Arial"/>
              </a:rPr>
              <a:t>Senzaţii vizual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Bibliografie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Dicţionar de psihologie, Ed. Humanitas, Bucureşti, 20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11-19T03:18:03Z</dcterms:created>
  <dc:creator>Adi Sopon</dc:creator>
  <dc:description/>
  <dc:language>en-US</dc:language>
  <cp:lastModifiedBy>Cursant11</cp:lastModifiedBy>
  <dcterms:modified xsi:type="dcterms:W3CDTF">2010-08-17T12:25:11Z</dcterms:modified>
  <cp:revision>44</cp:revision>
  <dc:subject/>
  <dc:title>Lucrare metodico-ştiinţifică  pentru obţinerea gradului didactic I</dc:title>
</cp:coreProperties>
</file>